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0BE-8980-492C-A89B-83C42B2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59C-4A3D-44E2-98A2-EFDCF9EA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35380-EB0B-42C6-ADC2-3395CA13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8C2F1-1137-47CD-B174-56824D59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CD6EB-2F74-4659-9E8B-5E13F99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B199-D1FE-48FD-870D-7821C3A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D942-D2C0-4208-A7D4-0FBE367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A337C-869B-41A6-BC8E-0532D1A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65E39-C4A1-4E95-B0FA-19D65DF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A99B0-7D6A-4234-9C67-2E770F37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6B2E-75AE-441D-B220-CD7DA2D3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FB410-4C36-4A09-B3D3-877A84FB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35D-F681-45DE-9507-8D4737E1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4421B-006A-4C2C-967F-7EF9DB0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2E7BD-19AA-462D-93FC-745F43A8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7EB5D-87AC-4BD6-9C8E-135F75AE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6F3FD-EAEB-4126-B5D6-2815D29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9FA9-9AAB-441F-BD41-89EB89B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E044-3474-4B74-AD18-BD58E03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3C1D0-9ED5-4B77-A5A1-59CBE63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D81B-FC64-4F5C-AF9C-11C3CE9F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6372-CFD3-4061-B493-6313AB86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C0F38-5153-4C7A-8E76-78369D48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14A-09E9-451F-B9C3-7BB7C74F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FC4A4-B788-4878-8CF4-F27A5CA8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98899-2AF9-44B5-A05D-B6D95BA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02761-1F94-463F-9849-F2FA1874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47E6-317D-41CD-81A3-2CEEBC17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490ED-BBC7-4B6C-BDF1-89BF48A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3BE03-9E19-449E-B758-547EB6E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F308-826E-4C3B-AD3A-F41DD99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81DE-BC8C-4B9B-9581-50B8CEF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7E8C-1817-46A7-AFB0-4927478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26424-85FA-443B-A35B-0D0258F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5DBD-68A8-407C-A61B-E272B3A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5D90A-4CBE-4213-B313-0D67E69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F13B-FCD7-4552-991C-469466F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8E51-EFB9-488C-A25F-F729B2F9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D527A-A67E-435E-8021-57122531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88650-4022-4B5E-9BF0-7CA03D66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168F5-C658-4AF4-829E-EBCC8D2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D83AC-1793-4CE4-A354-F4D96EE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C0A6C-B2CE-44D8-980B-B9EDBB4F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62EAB-F753-4AC4-B685-DB1F6AE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8DA1F-B6FA-49EB-BAC1-F2806F9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B16-FD5C-415A-BB34-2171B91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5B372-D727-4CAD-A7BF-BAFB1DD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E734-D437-4C50-9E0C-6B9C2FB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0A51D-F98D-4CF2-AE03-4BCC7C70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6E18-F54C-4466-BD33-F93BFEFB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DBD12-74AF-4DC8-984F-EED79C3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FD9A8-3450-4BE2-9894-92D8AC59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074E6-0F33-4B3D-92EA-5880D53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D3322-DD21-435A-A064-7F052A4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51E08-03BE-4CAB-9C63-58B326F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D4915-C9E1-411D-BE97-C141D2C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A99-0DDF-4524-941E-8D765A6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F52A2-D9C9-4043-AC3A-1F493318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29797-1846-4065-8D13-47C957F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293A1-5879-4D4A-A428-A7B2D14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FFF07-8400-4298-9D50-F7B1791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53575-F607-4627-BEB7-BFE74CE9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1BB78-7EF7-4838-85B4-62FB9FB8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07FFC-561C-48C7-8919-75460CCF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07D9B-CB66-4171-9E22-4D62A0C8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F96D6-00E5-43A4-AE4E-EC82036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82E2F-BF45-46BF-A8D7-9957C549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2A4-E91E-4B5D-B4D7-E184248A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DF07C-60EB-4EB4-AF5C-D5BCCB5A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B8353-1B0A-4963-AE48-2CE1BD2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20DE4-C481-4D49-8123-4941D96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3C675-D2F9-4466-AC0E-F475896B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535C3-A3AE-47AB-8FF9-3A299B8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37B88-D6A9-4758-9E30-CECBFE8B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4105D-6642-4579-A2A3-2EF8CC9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1E158-F45D-4CAC-96E3-0DA9BC11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FD9A7-9569-4C0E-9AA1-9F282C2A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43DE5-3B91-42DB-9A84-A654342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8681-18DF-422D-8406-827F3CA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BD1A2-8887-45F7-8729-1D01863E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D9483-F50E-46E9-AA0F-E5A0F970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2C2CF-04E3-49F5-AD6C-3794B194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A8C4B-A5DC-4AD3-823A-123FEA7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41D8C-6E4F-421D-B079-BD9FF8FB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2B09D-59A2-4618-ABF0-7B957856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9B558-C9CC-4F75-88D7-E3CAD69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E8F34-A479-4E77-BB08-E6A7C9B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317CB-5578-4BE2-989C-B8435881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C9362-6A4C-4989-A667-AE94900D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2E13-16A3-47D6-A3D9-58D508DC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FE9F1-7526-4228-8303-FE104FFC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E199B-9A3F-4969-97D0-A606ED16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68EDF-2D98-4FB1-995F-7893FF7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B8F6D-C6CF-40AC-93D1-8784AF06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2CCC8-62B7-4B29-A933-57265665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FA32F-E2BC-4A4D-A85C-8736D18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BD9C4-0B2A-4B28-B882-8879FB90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5F4AA-FA78-4033-B76B-ADBA8B1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7FD9B-0EE9-4789-A979-F0AD259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3E54F-8603-43AD-A093-1A97EBD2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C4C-C1DF-4ECF-9046-B083823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EE45E-2105-406D-913B-7D0E183D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FE86A-A0E6-4F92-8D8C-55CCA2CE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CFDA2-F401-4466-BE15-A0D11364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F5E38-B380-453F-BE1D-6E32FD96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6A73E-5AE8-4DEA-8926-95973DA6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6CF70-F8A9-4966-B72F-ACB96A99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936E2-6602-4D02-84E9-FB59368B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BB5A4-9F1B-41A6-ABAC-869303F3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C6243-B7DC-4D22-BEC6-2F17DDD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54A0B-F5F7-4800-A4BD-F6963F7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4A6-AACF-4961-A532-851A816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EE13-FA11-4DD9-8BD2-523C71A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34BA0-5FED-434A-9DE0-7ACDC67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D647A-C759-4FF7-807C-3FCE3A3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BF70E-F9D9-4556-AB9D-58A04139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D7FF9-C4B1-4CAE-8F1F-C29A6DCD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C5305-287B-4AEE-BEBD-6DD5B88E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5C4BC-195A-4F6C-98E4-F8F0791E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A8503-DF86-4BBE-B2B3-E54F805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3F5A9-0CC9-4F8E-A5FB-F46D9F7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BB930-02B8-4807-BA06-E08AA77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C4A46-51AF-48FF-876A-005D8A5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706-08B6-4914-A915-5133BFB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A560B-F0A4-4283-A993-D475F215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8F983-5F33-4277-8788-B2C255A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6CF18-3EB0-4F9B-A912-2F4E736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46F60-1DB7-43F0-B0D7-E2CF9DE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DAEF2-5830-4240-A4FE-8C473A0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69D83-BC69-446A-AEF1-DEDE2CAC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68FC2-FDFC-4BC5-8051-751FDA7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709C9-3EA3-4AA0-85C4-5FBF8B9F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77CF8-443D-4E9C-84D6-EE97DCA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47F3A-D202-4DE1-80F1-EBE3687C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9EA-EA32-484E-86A6-33C55372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6A25E-8FB9-4ABC-9A56-35C34166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9C4CC2-787B-4F25-B740-100573D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5B10B-3D3F-4F16-9FAF-9F3B6420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E0D3E-3E6A-4A09-AD59-9763A982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5ADE1-BFAD-4B75-8505-0A9061C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24112-11EC-4020-A220-1A2BE82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321E4-E900-4450-B1F9-2833806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9C09E-6D86-4F08-9F8C-03D9203F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68DAD-F9ED-4FEF-8644-66360AB9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7301D-2CF9-4EF9-934B-31A1AC15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F12B-4B1A-46A4-AE6E-82530687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450C5-BCBB-4388-80E5-82CC4E3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5330F-1693-4452-BF2E-771364E8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99EA5-0088-4B5E-8275-C9ED8777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684BF-88BC-4017-83D7-82B32A8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346BC-B63A-4F82-BD5E-8D935F8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571621-B2A7-4DB8-9120-843B35FD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7C1B6-9B35-4006-AE05-A14FB33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0B284-9D40-4A7F-8099-F81973F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CA4F4-1980-4482-920E-DCBA21E1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03624-30E4-4200-9724-6A36AB45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4351-F1F3-4B85-ACAC-AA2A5D09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FB151-DFC3-4753-B9B6-1150D6DE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36A9B-2602-4539-835C-A9DFCFB5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3E73A-0C2E-479E-821E-4E0BBAB2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FBA0C-A664-4187-8721-59302709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A87CF-81F0-49EA-BC65-F5355DC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E23B2-28F1-4942-B80A-02528CA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F59F32-A347-49C7-A962-70894F8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75B23-1BCC-4F5C-B8CB-A4C2CE33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49E9E-75D5-4017-9DA6-B5275BF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03F1E-7B67-4C86-B4F6-06294B5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B675-668A-473E-87D8-8199744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0432A-B000-448E-BB5C-2F16B12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2DA18-1AE3-4472-9E36-1FFFDD23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C50BE-33FC-4218-875B-B87A56BB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1F4EC5-1698-427D-9086-6C515EB6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46CCA6-9511-4E4F-A58A-2C517F7E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1A13E-13FF-4809-A6A0-3DCAD1D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E8B95-D668-4255-B1FD-5A82CAE8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A0B584-3A54-4B83-98F3-4EAB789B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DD2BA6-3C8E-4418-B5FA-4F38AAD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3271D-1CD2-4353-8630-0D996BA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DE07-F3A0-48E7-86A3-D21B9A0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4AF59E-45D7-434F-9C55-32DC3EB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99D97-FC0F-4BEC-B571-E5E2953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69078B-8AD4-4C35-AF9D-C530FA6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C5AE0-110C-44EA-9109-7314D05A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74143-F3CC-4B83-BCC9-4AFC00A1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137879-B82C-4278-96EE-7A812408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1652A-24A4-4208-856E-92BE6070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786AA5-3C53-4E16-9B82-C5B66A0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D76C0D-2A21-430B-A707-037008B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1025F-52AA-4923-A42D-47A37382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A62B-6A59-4F75-8390-AD73AAB9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C3087-3183-4E64-B8A3-9C6D58A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CE0BE8-B9F1-49D5-BA4B-4C28D43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3E37FA-2FDB-44C8-8575-5D9F3E21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971FF-C820-4DF9-A305-390E98E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49D5B-8B72-4E33-AAF0-3F713A53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FED25-DF99-404E-A443-050BE55D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6AA850-5F70-465F-809D-C3A1D2AA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3649-5B4E-4AAE-B123-E18CC213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D2C2-F2F7-4F22-8ECB-5DF17E2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FD3-C9A5-464E-88A2-00BA6815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0110-5DCA-474A-AECB-DA04449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A283A-1E8E-4C1C-B300-8E05C03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7A0A-7030-43D6-AFFF-601B013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6A74-6445-4533-B3E1-78872CD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62D2-8FA4-45F9-BF6B-BA436DE3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87C3-C2C1-4955-BA5B-32EE5BEA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CE4D-44C8-411C-A53C-6A572BAA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BD76-A07F-40F2-85E5-AF2FE1A8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B4E4-97F8-4B70-BBA1-5C1387A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15A3-949C-4E7C-866F-69CFB23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74D-6969-40C7-8A9D-0DE69E35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74F9-D8D2-4B24-93C2-A74E714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2A9D-138F-400C-94B5-E4395D51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4A2B-2D6F-4A66-9C78-6B16096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FF03-4D54-43AF-8CDA-D0647B1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4C48-B115-443B-A91D-38401AB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0163-2E24-4D02-811E-688E3BD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07BB-96CF-4A36-AEEB-4D407D4E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E2E2-46E3-4D3C-9DC8-A52389E5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8BFE-D23B-4102-8B52-6499873D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49D2-C458-4FB8-BDCD-C3A3EC38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E59-B3B2-4342-9C0B-716FB0E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C7EC-2195-4758-BDBB-45B4508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AF26-27BD-44B0-8A69-7E5EB40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7F6D-5C1D-4795-B052-9F4DDF4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6324-CFDB-484C-91ED-7CB18228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D46A-4480-42AF-9249-7E577EAB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2A4D-23DF-4B6B-A176-9D8A58A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C293-C055-4446-BB2B-BAEB6C8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513C-6CAF-4CCE-ADDD-4531E46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3E56-E096-4942-AF34-500383ED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A07A-5847-488B-A56B-A37CB867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BBB-13C3-476B-8673-35AAD49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B67F-0ADF-489B-8D48-245AA871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ECDE-9E2F-4167-9229-2276874A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CD1C-7D53-47D3-969A-29D3644E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82DA-C84B-4E5B-BD1A-C7DC98E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0C478-F06F-47BF-9D68-D6063A39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CD322-BACC-454C-9BF4-2139494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3B22-DCFF-4120-BC22-09133FA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9E4E-6B40-4CB8-ABA7-363DB20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4777-C6AA-4DD6-94B3-CB883E4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AE25-0520-480E-B34F-95B470E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179-11BA-4632-893A-6BD3206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0875-77DD-436C-AD46-BF84817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7B8B-FCF7-4E57-AB9F-5F580E8A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886F-AC82-4B50-80B4-ABDC07A3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55FA6-13CC-4C03-914D-FBA45577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D641-D589-4018-ADEA-6352A26D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2E43-3BEA-475D-86A0-5F851617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E6D3-A166-45AF-A422-FD97268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D721-EE14-45D0-B269-FB0C1AEA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7670-2B1B-47DA-93DF-B793D2D2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EE7E-C3EC-403A-8508-D0915B1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642-25EB-48AC-8F71-8C68A53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3DD9-88B9-420E-8688-73D1313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B3CD-D008-488E-AA93-03D1BB3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E43E-EE2D-4256-9709-F92CC21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652B-C2CC-4101-B6C0-35F8521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7DCE-8D6C-465F-946D-BEF3348A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1B6C-52DD-4CEC-92CE-D2705BF3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EFAE1-505C-4020-BB66-C89A7A1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EDFA-2A38-47DD-A692-C6E5E4FB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7707-5433-4267-8B7D-CBE644F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8248-FE49-4776-A308-4D016CE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4FD-C1A4-4827-9073-8295B09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5E64-267F-4691-8F89-47587C2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16AE-EA07-4F5D-BC2C-84E60735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A20C-D3D3-4583-AFCF-4EB9DC6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EE20-7EF9-4A19-A8F6-D0D713E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3E0C-F472-40C4-86E4-4512239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3F37-F84D-4712-8777-3D210C71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6F49-1810-4E35-8444-0BDFE039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F3AB7-2685-4659-ADAB-180D02E8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5F9F4-3825-49FF-9AB9-2569349F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79FBF-282D-4899-AB38-A52B336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01E-A121-4D29-B7F9-E30DDC3D1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BA2B-608B-444E-99F6-ACED2A7C0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EDEA-7F71-4A57-B6AD-A291770CF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A045-FA76-43C9-B5E1-C1302B31A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BA09-112F-46CD-8CB6-3B8507028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C28-D40D-49FD-BC45-0A0721204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046-4866-44C4-B0BE-4DB8CCB9D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AAC-C213-4889-AEDD-9BD9351DA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D12-A222-4A5E-8EB4-1EF424EDF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B7B-E7DA-46A7-8E13-CBDC273B8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448-AAFF-4F21-97BC-523404EB8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CD0-D8A0-4368-B1CD-2B455F74C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573-E94A-4579-8B1D-03F89F4EA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C081-6AA9-45D1-B819-C32C2BE11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D47-52DB-471D-97D1-7A1AE4882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D0B-54AC-4CC4-9D8A-BDA393A33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051-71B1-45CF-B90C-EF18159D8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167E-482D-450E-88B7-89FAE4CBC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A8B-83C5-4E51-AB18-E894F757C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C97-2181-4409-B709-24D9AFD83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E47-3B61-4CE0-BC5D-8BFEE3612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1E78-997B-4BE3-BAC8-0A1FB53F96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77E-83EB-4FE8-8161-95F86FFBB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951B-AEAE-40B9-B0B2-F33306787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300-7229-45B4-8461-F7C8F1109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C67-48D9-493B-BE8F-497FB78E3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7A70-72B3-4A78-884C-2B388B3BD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458-235A-4AB6-A6F4-3A21AF480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E868-B4D5-4832-B02F-492EC355D4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7E62-8865-4E70-B23C-17B9F88C7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B43-6F2A-4A80-BDF0-75558FA0F7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2659-AB1F-45E6-963A-CE7AC2DF4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F90C-EF9A-4CA0-BB68-3AFD02FCC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D13-79A4-41E2-8183-4C2858A451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9DE7-2E3D-43BC-BFC4-D279EEF285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02FC-69BC-470A-8AA8-687DC80BD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5D84-E29E-4B20-AB10-849DF7F6A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F3A-F938-4CD9-A56D-0C8D20BA89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E22E-4C22-4E8F-8226-D98251965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4C8-5E86-47C4-B841-4BA468F04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FAF-3647-4D10-A338-9FA0A1A3B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951-88E0-4D8F-87FD-0EB6D69A4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452680" y="2933640"/>
            <a:ext cx="4238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90440" y="757080"/>
            <a:ext cx="8763120" cy="53438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3311640" cy="409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755640" y="4363920"/>
            <a:ext cx="3887640" cy="409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611280" y="5587920"/>
            <a:ext cx="3168720" cy="4096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5724360" y="5575320"/>
            <a:ext cx="1295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57040" y="933480"/>
            <a:ext cx="8629920" cy="4991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755640" y="2176560"/>
            <a:ext cx="2952720" cy="40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2987640" y="3386160"/>
            <a:ext cx="295272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611280" y="5200560"/>
            <a:ext cx="2952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9240" y="795240"/>
            <a:ext cx="87055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9520" y="1928880"/>
            <a:ext cx="8724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77840" y="739800"/>
            <a:ext cx="8790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81080" y="1019160"/>
            <a:ext cx="8781840" cy="48196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33280" y="1057320"/>
            <a:ext cx="8675640" cy="47433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223920" y="747720"/>
            <a:ext cx="8694720" cy="53625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247680" y="1957320"/>
            <a:ext cx="8648640" cy="29433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50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14200" y="1104840"/>
            <a:ext cx="8713800" cy="4648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7308720" y="1700280"/>
            <a:ext cx="935280" cy="409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6286680" y="2305080"/>
            <a:ext cx="93492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843280" y="2909880"/>
            <a:ext cx="934920" cy="4096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6877080" y="4091040"/>
            <a:ext cx="934920" cy="409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3924360" y="4724280"/>
            <a:ext cx="1871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1:5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